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13.jpeg" ContentType="image/jpeg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BC8-53B9-4EB5-8F48-A92C2A32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201E-57EE-402D-B3E2-D7D23A92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8A0-F9E7-46CF-9DF0-60EEAEE3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086-FD79-41E3-843A-FDEE989E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6A7-DF93-4562-8C4F-1373F50F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E33-6759-4AEE-BCC0-7E8441FD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FE2-043D-4631-97C8-6F5B64C0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30B-C5BA-4AE6-861E-EF0FA2E7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C89-4762-436A-8F98-E2AC4AA4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459-A98A-4A36-B5A0-AC97BA9E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CAF-FF64-41B3-A25F-779D466D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077-6870-446D-8ABA-B3E910B2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AD9D-5941-4E60-91B7-DB66F2345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adishakti.org/" TargetMode="External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hss.fullerton.edu/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renatica.org/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amersol.edu.pe/es/grade3/geography/HernandoCortes.asp" TargetMode="External"/><Relationship Id="rId5" Type="http://schemas.openxmlformats.org/officeDocument/2006/relationships/hyperlink" Target="http://www.amersol.edu.pe/es/grade3/geography/HernandoCortes.asp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By: Emily Eagleston and Holly Gil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609480"/>
            <a:ext cx="39625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M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j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ffff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0d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ztecs lived in Central Me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panish explorer and conquistador called Cortez conquered the Aztecs in Tenochtitlan and it was built in the middle of a l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eader of the Aztec tribe was Montezuma that welcomed Cortez because they thought that he was their god Quetzalcoat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 Aztecs used other and some of theirs for human sacri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tecs believed in many gods so they were 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228600"/>
            <a:ext cx="2361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ztec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2209680" cy="157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4191120"/>
            <a:ext cx="2819520" cy="227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160" y="6583320"/>
            <a:ext cx="204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wk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9840" y="31996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ange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Tenochtitlán Map From The Memory Of Hernan Cortés. Museo del Templo Mayor. Templo Mayor (Tenochtitlán) Museum. Mexico City D.F. Mexico Travel &amp; Tour Pictures, Photos, Information, Images, &amp; Reviews."/>
          <p:cNvPicPr/>
          <p:nvPr/>
        </p:nvPicPr>
        <p:blipFill>
          <a:blip r:embed="rId3"/>
          <a:stretch/>
        </p:blipFill>
        <p:spPr>
          <a:xfrm>
            <a:off x="6545160" y="0"/>
            <a:ext cx="259884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343400" y="1143000"/>
            <a:ext cx="2133720" cy="2044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419720" y="36576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yas also lived in Mexico on the coast in Yucatan Penins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polytheistic ( believed in many g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slaves that could sometimes gain them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as didn’t contain that much </a:t>
            </a: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g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228600"/>
            <a:ext cx="4038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ya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279072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" y="5181480"/>
            <a:ext cx="254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dishakti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895480" y="1295280"/>
            <a:ext cx="1828800" cy="1508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743200" y="388620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were located in the Andes Mountains in Peru, Sou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pital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also were polytheis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 animal sacrifice and on special occasions they did human sacrifice (childr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a spoken language but not wri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civilization was gigan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24080" y="0"/>
            <a:ext cx="220032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c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776680" cy="3504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95280" y="3962520"/>
            <a:ext cx="243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hss.fullerton.ed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3427560" cy="2281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019920" y="0"/>
            <a:ext cx="205092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z was a paled skin Spanish explorer and conquis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raveled to Mexico with 500 men and 16 horses in his bo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z kidnapped the emperor Montezuma and kept him as a ho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zuma was killed in the following battle and the Spanish defeated the Aztec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90920" y="304920"/>
            <a:ext cx="37335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rte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370560" y="2438280"/>
            <a:ext cx="277344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01160" y="6095880"/>
            <a:ext cx="2459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enatica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1981080"/>
            <a:ext cx="2057400" cy="3962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10600" y="6019920"/>
            <a:ext cx="251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amersol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was a Spanish explorer and conquis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traveled with 180 men and 27 horses into Peru to conquer the In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 civilization had around 20 million people and they lived on the west side of the Andes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were taken over by Pizarro easily in 1531 because they were fitting a civil war (a war that people in the same country fight against each other) and Atahualpa the Inca emperor was held for ran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95480" y="0"/>
            <a:ext cx="2633760" cy="17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izarr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2679840" cy="3504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0440" y="609516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sol.edu.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nish explores and conquistador changed Central and South America forever by making people do a new realign like not believing in many gods and the Aztecs, Mayas, and Incas have disappeared with their realign and cul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304920"/>
            <a:ext cx="815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anish explorers and conquistador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14600" y="2362320"/>
            <a:ext cx="4276800" cy="17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cap="rnd" w="12600">
                  <a:solidFill>
                    <a:srgbClr val="3366ff"/>
                  </a:solidFill>
                  <a:custDash>
                    <a:ds d="100000" sp="1000"/>
                  </a:custDash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 </a:t>
            </a:r>
            <a:endParaRPr b="0" lang="en-US" sz="4800" spc="1" strike="noStrike">
              <a:ln cap="rnd" w="12600">
                <a:solidFill>
                  <a:srgbClr val="3366ff"/>
                </a:solidFill>
                <a:custDash>
                  <a:ds d="100000" sp="1000"/>
                </a:custDash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0880" y="4965840"/>
            <a:ext cx="2057400" cy="13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6705720" y="0"/>
            <a:ext cx="2019240" cy="2114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3809880" y="838080"/>
            <a:ext cx="1827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8:02Z</dcterms:created>
  <dc:creator>jklib</dc:creator>
  <dc:description/>
  <dc:language>en-US</dc:language>
  <cp:lastModifiedBy>jklib</cp:lastModifiedBy>
  <dcterms:modified xsi:type="dcterms:W3CDTF">2011-11-28T16:18:32Z</dcterms:modified>
  <cp:revision>9</cp:revision>
  <dc:subject/>
  <dc:title>Slide 1</dc:title>
</cp:coreProperties>
</file>